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67BC-D7FE-4255-AF9D-3CA0AD2895D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89F0-CE5B-4BC5-9D6A-A96AB2E3898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14F-AAD1-4C43-A636-62A84BAA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AFAE-9991-45E7-B4ED-0216EC88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BF9-0075-49FB-BF75-2DDA2D08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A3BB-F78D-4A12-A358-1E6610F0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1921-D9E0-48B9-B13A-E6D193FB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2BC-07DB-4792-95DB-2D44E48D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74E-06CE-45A9-ABDB-43E4593E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CC18-410E-4E56-86A6-6E4C86C3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542-41CA-49E3-BB62-F2C8F4DB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B7D7-9728-4BEC-80C5-083F1F18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B26-9E1E-4F47-B465-60357608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086-055C-4AE0-95AE-7A520EE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CD66-CF88-4084-A8B5-CB4C3CCA88C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tapainfantil.blogspot.com.es/p/proyecto-de-arte-con-pedro-cano.htm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1.bp.blogspot.com/-RHMRYvh4-wQ/TXawrC6MjeI/AAAAAAAAMaE/zNKeNVwZR3c/s1600/IMG_2888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4.bp.blogspot.com/-Vl14vYWdwro/TXawrNODRXI/AAAAAAAAMZ8/AzvWt_DAqw0/s1600/IMG_2891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3.bp.blogspot.com/-62Ss6puQNXw/TXawqyg7QyI/AAAAAAAAMZ0/akD-dXwkUI0/s1600/IMG_2890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1.bp.blogspot.com/-e1kW93sNPOs/TXawrfpD2mI/AAAAAAAAMaM/kGQs82Qls1k/s1600/IMG_2886.JPG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docs.google.com/file/d/0B-5WIO0WkwcEZjY1MGZhYWItOGMzMC00OWRlLWI2N2YtMWM5Y2U5NjkxYTU3/edit?hl=en_U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think1.tv/videoteca/es/index/0-37/proyecto-comprension-4-primari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volucion-industrial.wikispaces.com/Escribir+y+cantar+una+canci&#243;n+de+denuncia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revolucion-industrial.wikispaces.com/file/view/Informaci&#243;n%20escrita%20para%20la%20canci&#243;n%20protesta.doc/356187732/Informaci&#243;n%20escrita%20para%20la%20canci&#243;n%20protesta.doc" TargetMode="External"/><Relationship Id="rId5" Type="http://schemas.openxmlformats.org/officeDocument/2006/relationships/hyperlink" Target="http://www.redkaraoke.com/" TargetMode="External"/><Relationship Id="rId6" Type="http://schemas.openxmlformats.org/officeDocument/2006/relationships/hyperlink" Target="http://www.slideshare.net/AnaBasterra/redkaraoke-karaoke-online-14247087" TargetMode="External"/><Relationship Id="rId7" Type="http://schemas.openxmlformats.org/officeDocument/2006/relationships/hyperlink" Target="http://revolucion-industrial.wikispaces.com/file/view/PLANTILLA%20DE%20EVALUACI&#211;N%20ESCRIBIR%20Y%20CANTAR%20UNA%20CANCI&#211;N.doc/397546404/PLANTILLA%20DE%20EVALUACI&#211;N%20ESCRIBIR%20Y%20CANTAR%20UNA%20CANCI&#211;N.doc" TargetMode="External"/><Relationship Id="rId8" Type="http://schemas.openxmlformats.org/officeDocument/2006/relationships/hyperlink" Target="http://revolucion-industrial.wikispaces.com/file/view/MI%20DIARIO%20DE%20APRENDIZAJE.doc/383179572/MI%20DIARIO%20DE%20APRENDIZAJE.doc" TargetMode="External"/><Relationship Id="rId9" Type="http://schemas.openxmlformats.org/officeDocument/2006/relationships/hyperlink" Target="http://revolucion-industrial.wikispaces.com/file/view/PLANTILLA%20DE%20EVALUACI&#211;N%20ESCRIBIR%20Y%20CANTAR%20UNA%20CANCI&#211;N.doc/397546404/PLANTILLA%20DE%20EVALUACI&#211;N%20ESCRIBIR%20Y%20CANTAR%20UNA%20CANCI&#211;N.doc" TargetMode="External"/><Relationship Id="rId10" Type="http://schemas.openxmlformats.org/officeDocument/2006/relationships/hyperlink" Target="http://www.slideshare.net/AnaBasterra/redkaraoke-karaoke-online-14247087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vimeo.com/69410806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692280"/>
            <a:ext cx="8424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 paramos a pensar y reflexiona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35280" y="5229360"/>
            <a:ext cx="547344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inteligencias se trabaj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competenci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fermanzanilla.mx/wp-content/uploads/2013/01/pensar-o-sentir.jpg"/>
          <p:cNvPicPr/>
          <p:nvPr/>
        </p:nvPicPr>
        <p:blipFill>
          <a:blip r:embed="rId1"/>
          <a:stretch/>
        </p:blipFill>
        <p:spPr>
          <a:xfrm>
            <a:off x="2340000" y="1628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711840" cy="4176720"/>
          </a:xfrm>
          <a:prstGeom prst="rect">
            <a:avLst/>
          </a:prstGeom>
          <a:ln w="0">
            <a:noFill/>
          </a:ln>
        </p:spPr>
      </p:pic>
      <p:sp>
        <p:nvSpPr>
          <p:cNvPr id="88" name="2 CuadroTexto"/>
          <p:cNvSpPr/>
          <p:nvPr/>
        </p:nvSpPr>
        <p:spPr>
          <a:xfrm>
            <a:off x="1403280" y="53737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esía amorosa del siglo 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ES La Rosaleda (Mála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619280" y="942840"/>
            <a:ext cx="5400720" cy="3948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547640" y="5013360"/>
            <a:ext cx="5761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voz de Latino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egio Ayalde 4º ESO (Bizka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05440" cy="355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63640" y="3733920"/>
            <a:ext cx="5219640" cy="3124080"/>
          </a:xfrm>
          <a:prstGeom prst="rect">
            <a:avLst/>
          </a:prstGeom>
          <a:ln w="0">
            <a:noFill/>
          </a:ln>
        </p:spPr>
      </p:pic>
      <p:sp>
        <p:nvSpPr>
          <p:cNvPr id="93" name="3 CuadroTexto"/>
          <p:cNvSpPr/>
          <p:nvPr/>
        </p:nvSpPr>
        <p:spPr>
          <a:xfrm>
            <a:off x="493236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entamos nuestras cre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4 CuadroTexto"/>
          <p:cNvSpPr/>
          <p:nvPr/>
        </p:nvSpPr>
        <p:spPr>
          <a:xfrm>
            <a:off x="2268360" y="580536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istorias en primer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119240" y="1066680"/>
            <a:ext cx="6905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051840" cy="4005000"/>
          </a:xfrm>
          <a:prstGeom prst="rect">
            <a:avLst/>
          </a:prstGeom>
          <a:ln w="0">
            <a:noFill/>
          </a:ln>
        </p:spPr>
      </p:pic>
      <p:sp>
        <p:nvSpPr>
          <p:cNvPr id="97" name="4 CuadroTexto"/>
          <p:cNvSpPr/>
          <p:nvPr/>
        </p:nvSpPr>
        <p:spPr>
          <a:xfrm>
            <a:off x="1116000" y="5157720"/>
            <a:ext cx="655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encias pasean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º ESO Instituto Artaza Romo (Bizka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254560" y="1700280"/>
            <a:ext cx="388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fantil y Pri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primaria"/>
          <p:cNvPicPr/>
          <p:nvPr/>
        </p:nvPicPr>
        <p:blipFill>
          <a:blip r:embed="rId1"/>
          <a:stretch/>
        </p:blipFill>
        <p:spPr>
          <a:xfrm>
            <a:off x="250920" y="981000"/>
            <a:ext cx="5113080" cy="364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psicologia-infantil"/>
          <p:cNvPicPr/>
          <p:nvPr/>
        </p:nvPicPr>
        <p:blipFill>
          <a:blip r:embed="rId2"/>
          <a:stretch/>
        </p:blipFill>
        <p:spPr>
          <a:xfrm>
            <a:off x="5364000" y="3573360"/>
            <a:ext cx="361980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1476360" y="5229360"/>
            <a:ext cx="1655640" cy="93636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125280 h 936360"/>
              <a:gd name="textAreaBottom" fmla="*/ 811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260280"/>
            <a:ext cx="741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royecto de Arte con Pedro C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ula de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Imagen1"/>
          <p:cNvPicPr/>
          <p:nvPr/>
        </p:nvPicPr>
        <p:blipFill>
          <a:blip r:embed="rId2"/>
          <a:stretch/>
        </p:blipFill>
        <p:spPr>
          <a:xfrm>
            <a:off x="324000" y="981000"/>
            <a:ext cx="3047760" cy="215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IMG_288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4581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IMG_28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3213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IMG_28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3284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IMG_288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45813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4427640" y="992160"/>
            <a:ext cx="4394160" cy="562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obras del ar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bajamos diferentes conceptos: Arriba-Abajo, Alto-Bajo, Abierto-Cerrado, Dentro-Fuera, Grande-Mediano-Pequeño, Lejos-Cerca, Color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lumnos pintan en papel y en la PDI utilizando estos concep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radio con Pedro 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imos en la tele practicando con la P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s visita Pedro 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ocemos la vida de Pedro Cano (pictogramas, acercamiento a la lecto-escritu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ego on-line sobre el ar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02600" cy="5076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484360" y="5877000"/>
            <a:ext cx="5256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os vamos de comp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3º E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5219640" y="189000"/>
            <a:ext cx="360036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7524720" cy="4729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5292720" y="333360"/>
            <a:ext cx="3600360" cy="479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luvia de ideas sobre las monedas de uso legal. Se usa la pizarr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roquelamos monedas y las identific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alculamos con las monedas distintas 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Realizamos los murales de las tiendas con los materiales apor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ificamos la compra con una cantidad 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izamos las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50920" y="4840200"/>
            <a:ext cx="8281800" cy="162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ompra real en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xposición oral de las situaciones vividas durante la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iario de la exper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Reflexionamos sobre nuestro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345440" cy="4434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476360" y="5373720"/>
            <a:ext cx="6480360" cy="113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ud y cuerp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royecto de Comprensión 4º de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cunda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portada3"/>
          <p:cNvPicPr/>
          <p:nvPr/>
        </p:nvPicPr>
        <p:blipFill>
          <a:blip r:embed="rId1"/>
          <a:stretch/>
        </p:blipFill>
        <p:spPr>
          <a:xfrm>
            <a:off x="684360" y="1268280"/>
            <a:ext cx="8105760" cy="161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secundaria"/>
          <p:cNvPicPr/>
          <p:nvPr/>
        </p:nvPicPr>
        <p:blipFill>
          <a:blip r:embed="rId2"/>
          <a:stretch/>
        </p:blipFill>
        <p:spPr>
          <a:xfrm>
            <a:off x="0" y="3716280"/>
            <a:ext cx="9144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REA: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Escribimos una canción protesta y la cant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ongo390"/>
          <p:cNvPicPr/>
          <p:nvPr/>
        </p:nvPicPr>
        <p:blipFill>
          <a:blip r:embed="rId2"/>
          <a:stretch/>
        </p:blipFill>
        <p:spPr>
          <a:xfrm>
            <a:off x="0" y="981000"/>
            <a:ext cx="3714840" cy="261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ANd9GcTl22c1Cgv_nMz3ooqeJmfsFG-OGzy1I6Z5X1tWlkxLagvsYUeJAg"/>
          <p:cNvPicPr/>
          <p:nvPr/>
        </p:nvPicPr>
        <p:blipFill>
          <a:blip r:embed="rId3"/>
          <a:stretch/>
        </p:blipFill>
        <p:spPr>
          <a:xfrm>
            <a:off x="250920" y="3933720"/>
            <a:ext cx="3382920" cy="2538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3780000" y="907920"/>
            <a:ext cx="5113080" cy="586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1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emos, escuchamos y leemos canciones protesta (ejemplos, mode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2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uscamos información en Internet para la canción protesta.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lantil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recoger la información escr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3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nsamos en la música de nuestra canción. Utilizamos la aplicación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REDKARAOK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4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enzamos a escribir nuestra canción.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Orientaciones y plantilla de 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5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cribimos en nuestro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iario de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6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dactamos el texto definitivo de nuestra canción.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lantilla de 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7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sayamos la ca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8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bamos nuestra can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9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stramos nuestra grabación a nuestros compañ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1908000" y="5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ctividad puede ser individual , en pareja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en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076720" y="5950080"/>
            <a:ext cx="3276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º A Instituto de Astrabud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189000"/>
            <a:ext cx="4032360" cy="66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LE CHARO: CHE CHE CHEKA CHEKA VAMONOS A GRAN BRETAÑA 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A TARDE DE ABRIL VI A UNA CUADRILLA JUVENIL QUE TRABAJABA EN LA FABRICA TEXT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O ES EL TRABAJADOR JUVENIL ELLOS NO SABEN SI REIR O SUFRIR YO ME QUIERO MORIR PORQUE NO ME GUSTA VERLOS SUFR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FUERA POR MI DARIA LO MEJOR DE MI TIRIRIRIRIR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TRABAJO JUVENIL ES  LO PEOR QUE TE PUEDDE PASAR A TI TIRIRIR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QUIERES VETE AHÍ Y NO LES DEJES SUFRIR AHÍ TIRIRIR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QUIERES APRENDER LO QUE ESTAN HACIENDO AHÍ VETE PARA ALLI TIRIRIR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HÍ AHÍ VETE A LA WIKI Y YA VERAS LO QUE HAY AHI TIRIRIR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O ES DE MI Y TE LO DEDICO A TI CON TODO MI CORAZON PATI TIRIRIRIRIRIRIRIIR Y QUIEN ME LO NIEGE QUE SE VAYA PARA AHÍ TIRIR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219640" y="404640"/>
            <a:ext cx="33130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788000" y="260280"/>
            <a:ext cx="3959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bre el trabajo infantil en la act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148360" y="1125360"/>
            <a:ext cx="33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6 Imagen" descr="Dibujo.jpg"/>
          <p:cNvPicPr/>
          <p:nvPr/>
        </p:nvPicPr>
        <p:blipFill>
          <a:blip r:embed="rId1"/>
          <a:stretch/>
        </p:blipFill>
        <p:spPr>
          <a:xfrm>
            <a:off x="4788000" y="2276640"/>
            <a:ext cx="4356000" cy="2171520"/>
          </a:xfrm>
          <a:prstGeom prst="rect">
            <a:avLst/>
          </a:prstGeom>
          <a:ln w="0">
            <a:noFill/>
          </a:ln>
        </p:spPr>
      </p:pic>
      <p:sp>
        <p:nvSpPr>
          <p:cNvPr id="84" name="7 CuadroTexto"/>
          <p:cNvSpPr/>
          <p:nvPr/>
        </p:nvSpPr>
        <p:spPr>
          <a:xfrm>
            <a:off x="5076720" y="522936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taora: Char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076720" y="1484280"/>
            <a:ext cx="316728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º y 6º de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751720" y="4676760"/>
            <a:ext cx="957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5:59:58Z</dcterms:created>
  <dc:creator>ana</dc:creator>
  <dc:description/>
  <dc:language>en-US</dc:language>
  <cp:lastModifiedBy>ana</cp:lastModifiedBy>
  <dcterms:modified xsi:type="dcterms:W3CDTF">2015-04-07T16:43:43Z</dcterms:modified>
  <cp:revision>4</cp:revision>
  <dc:subject/>
  <dc:title>Diapositiva 1</dc:title>
</cp:coreProperties>
</file>